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F85-AADF-4C2F-B680-3DD90423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E96-2D90-403E-B262-04B9D56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65A-CF13-4F35-BB8F-04A936F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FCD-3080-4ABC-A601-27BD746C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975-55EF-45B6-8F32-41F783A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9CC-0954-456A-9727-0F84C7DA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A95-2C3F-427F-BB4D-B4EE431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398-2E0D-4279-A439-BFFB3C9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E8D-7D27-40B1-931B-633CD48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503-2053-4781-A6C4-21BB7CA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5FA-9CE4-456F-863A-7FC11E3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CD5-F194-401F-9A94-9CFC26D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03ED-8A7D-42F7-B6CD-C97D9A0FB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nors Physics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Subtitle 2" descr=""/>
          <p:cNvPicPr/>
          <p:nvPr/>
        </p:nvPicPr>
        <p:blipFill>
          <a:blip r:embed="rId1"/>
          <a:stretch/>
        </p:blipFill>
        <p:spPr>
          <a:xfrm>
            <a:off x="1212840" y="2541600"/>
            <a:ext cx="6413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als of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pare students for the rigors of a college 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ing sure the best students have the best opportun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ing creativity to scientific ques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arning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ultiple-ste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sol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ing an understanding of how the rules of nature guide to behavior of objects in the world around 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ing proficiency in computer based data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ing learning complex science topics interesting and fu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pics we cover in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and data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tonian mechanics – how objects 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and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s – Including light and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and W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physics and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you need to succeed in this cou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willingness to be creative in solving problems and not being afraid of challe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bility to work with and to respect your classm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ing prepared for class including having your text, pen, pencil and composition book in class each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one is a natural born learner – you need to foster your learning by finding and understanding your learning sty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ufficient understanding of basic algebraic and geometric conce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you will do in thi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and note taking – from text and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-ups and clo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op –concept and math 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s, quizzes and alternat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ing in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book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= 10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st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Quarterlies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 worksheets/rep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10 points e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class performanc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10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Work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 3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3" descr=""/>
          <p:cNvPicPr/>
          <p:nvPr/>
        </p:nvPicPr>
        <p:blipFill>
          <a:blip r:embed="rId1"/>
          <a:stretch/>
        </p:blipFill>
        <p:spPr>
          <a:xfrm>
            <a:off x="96840" y="1822320"/>
            <a:ext cx="895500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1:49:18Z</dcterms:created>
  <dc:creator>sebastian interlandi</dc:creator>
  <dc:description/>
  <dc:language>en-US</dc:language>
  <cp:lastModifiedBy>sebastian interlandi</cp:lastModifiedBy>
  <dcterms:modified xsi:type="dcterms:W3CDTF">2009-09-08T18:16:44Z</dcterms:modified>
  <cp:revision>11</cp:revision>
  <dc:subject/>
  <dc:title>Honors Physics 2008</dc:title>
</cp:coreProperties>
</file>